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70080" y="2654280"/>
            <a:ext cx="487656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70080" y="4991040"/>
            <a:ext cx="4876560" cy="180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622440" y="2781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3212640"/>
            <a:ext cx="10464840" cy="344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9"/>
          <a:stretch/>
        </p:blipFill>
        <p:spPr>
          <a:xfrm>
            <a:off x="1384200" y="927000"/>
            <a:ext cx="6451560" cy="19940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1269720" y="151092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3574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4800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83160" indent="-35712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186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81320" y="29714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6222960"/>
            <a:ext cx="1046484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69720" y="7695720"/>
            <a:ext cx="104648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 rot="21498000">
            <a:off x="1419120" y="672948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36c8c"/>
                </a:solidFill>
                <a:latin typeface="Marker Felt"/>
                <a:ea typeface="Marker Felt"/>
              </a:rPr>
              <a:t>Element Symbol- F</a:t>
            </a:r>
            <a:endParaRPr b="0" lang="en-US" sz="48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30040" y="355608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f1f1f"/>
                </a:solidFill>
                <a:latin typeface="Georgia Italic"/>
              </a:rPr>
              <a:t>Element: Fluorine </a:t>
            </a:r>
            <a:br>
              <a:rPr sz="9600"/>
            </a:br>
            <a:endParaRPr b="0" lang="en-US" sz="9600" spc="-1" strike="noStrike">
              <a:solidFill>
                <a:srgbClr val="1f1f1f"/>
              </a:solidFill>
              <a:latin typeface="Georgia Ital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  <p:sp>
        <p:nvSpPr>
          <p:cNvPr id="644" name=""/>
          <p:cNvSpPr/>
          <p:nvPr/>
        </p:nvSpPr>
        <p:spPr>
          <a:xfrm>
            <a:off x="1643760" y="788400"/>
            <a:ext cx="21114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e74"/>
                </a:solidFill>
                <a:latin typeface="Georgia"/>
                <a:ea typeface="Georgia"/>
              </a:rPr>
              <a:t>AN- 9</a:t>
            </a:r>
            <a:endParaRPr b="0" lang="en-US" sz="64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5" name=""/>
          <p:cNvSpPr/>
          <p:nvPr/>
        </p:nvSpPr>
        <p:spPr>
          <a:xfrm>
            <a:off x="9334080" y="889920"/>
            <a:ext cx="27072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e74"/>
                </a:solidFill>
                <a:latin typeface="Georgia"/>
                <a:ea typeface="Georgia"/>
              </a:rPr>
              <a:t>AM- 19</a:t>
            </a:r>
            <a:endParaRPr b="0" lang="en-US" sz="64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322f"/>
                </a:solidFill>
                <a:latin typeface="Marker Felt"/>
              </a:rPr>
              <a:t>Isotopes and Ions of Fluorine!!</a:t>
            </a:r>
            <a:endParaRPr b="0" lang="en-US" sz="64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1556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Isotopes: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Ions:                  </a:t>
            </a:r>
            <a:r>
              <a:rPr b="0" lang="en-US" sz="6400" spc="-1" strike="noStrike">
                <a:solidFill>
                  <a:srgbClr val="004e74"/>
                </a:solidFill>
                <a:latin typeface="Georgia"/>
              </a:rPr>
              <a:t>1-</a:t>
            </a:r>
            <a:endParaRPr b="0" lang="en-US" sz="64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5054760" y="2793960"/>
            <a:ext cx="5159160" cy="31114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 flipH="1">
            <a:off x="3365640" y="4572000"/>
            <a:ext cx="1511280" cy="216000"/>
          </a:xfrm>
          <a:prstGeom prst="line">
            <a:avLst/>
          </a:prstGeom>
          <a:ln w="88920">
            <a:solidFill>
              <a:srgbClr val="ff2ce3">
                <a:alpha val="7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615760" y="6883560"/>
            <a:ext cx="1752840" cy="12600"/>
          </a:xfrm>
          <a:prstGeom prst="line">
            <a:avLst/>
          </a:prstGeom>
          <a:ln w="88920">
            <a:solidFill>
              <a:srgbClr val="16511e">
                <a:alpha val="7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Marker Felt"/>
              </a:rPr>
              <a:t>structure of the fluorine atom</a:t>
            </a:r>
            <a:endParaRPr b="0" lang="en-US" sz="64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39960" y="2857320"/>
            <a:ext cx="10464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Protons-9                         </a:t>
            </a:r>
            <a:endParaRPr b="0" lang="en-US" sz="48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Neutrons-10 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5099040" y="3265560"/>
            <a:ext cx="493560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d0c4d"/>
                </a:solidFill>
                <a:latin typeface="Marker Felt"/>
              </a:rPr>
              <a:t>Location on periodic table: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412720"/>
            <a:ext cx="1046484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e74"/>
                </a:solidFill>
                <a:latin typeface="Georgia"/>
              </a:rPr>
              <a:t>Group 17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                 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e74"/>
                </a:solidFill>
                <a:latin typeface="Georgia"/>
              </a:rPr>
              <a:t>Period 2</a:t>
            </a:r>
            <a:endParaRPr b="0" lang="en-US" sz="48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4330800" y="3378240"/>
            <a:ext cx="7277040" cy="46101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0261440" y="3886200"/>
            <a:ext cx="597240" cy="635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0058040" y="2831760"/>
            <a:ext cx="368280" cy="1028520"/>
          </a:xfrm>
          <a:prstGeom prst="line">
            <a:avLst/>
          </a:prstGeom>
          <a:ln w="63360">
            <a:solidFill>
              <a:srgbClr val="000000">
                <a:alpha val="7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191919"/>
                </a:solidFill>
                <a:latin typeface="Marker Felt"/>
              </a:rPr>
              <a:t>discovery of the fluorine atom</a:t>
            </a:r>
            <a:endParaRPr b="0" lang="en-US" sz="64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68560" y="2831760"/>
            <a:ext cx="10464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o?- Joseph Henri Moissan  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Year discovered: 1886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Where?- France                     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5"/>
          <a:stretch/>
        </p:blipFill>
        <p:spPr>
          <a:xfrm>
            <a:off x="9245520" y="2727360"/>
            <a:ext cx="1551240" cy="22604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684760" y="6018120"/>
            <a:ext cx="274320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Physical Propertie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2712960" y="2984400"/>
            <a:ext cx="7264440" cy="532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Uses of the Fluorine Atom: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4" marL="3073320" indent="-406440">
              <a:lnSpc>
                <a:spcPct val="100000"/>
              </a:lnSpc>
              <a:spcBef>
                <a:spcPts val="3200"/>
              </a:spcBef>
              <a:buClr>
                <a:srgbClr val="004e74"/>
              </a:buClr>
              <a:buSzPct val="125000"/>
              <a:buFont typeface="Georgi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 </a:t>
            </a: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Refrigerant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3073320" indent="-406440">
              <a:lnSpc>
                <a:spcPct val="100000"/>
              </a:lnSpc>
              <a:spcBef>
                <a:spcPts val="3200"/>
              </a:spcBef>
              <a:buClr>
                <a:srgbClr val="004e74"/>
              </a:buClr>
              <a:buSzPct val="125000"/>
              <a:buFont typeface="Georgi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rocket fuel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3073320" indent="-406440">
              <a:lnSpc>
                <a:spcPct val="100000"/>
              </a:lnSpc>
              <a:spcBef>
                <a:spcPts val="3200"/>
              </a:spcBef>
              <a:buClr>
                <a:srgbClr val="004e74"/>
              </a:buClr>
              <a:buSzPct val="125000"/>
              <a:buFont typeface="Georgi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Fluorine compound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3073320" indent="-406440">
              <a:lnSpc>
                <a:spcPct val="100000"/>
              </a:lnSpc>
              <a:spcBef>
                <a:spcPts val="3200"/>
              </a:spcBef>
              <a:buClr>
                <a:srgbClr val="004e74"/>
              </a:buClr>
              <a:buSzPct val="125000"/>
              <a:buFont typeface="Georgi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toothpaste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3073320" indent="-406440">
              <a:lnSpc>
                <a:spcPct val="100000"/>
              </a:lnSpc>
              <a:spcBef>
                <a:spcPts val="3200"/>
              </a:spcBef>
              <a:buClr>
                <a:srgbClr val="004e74"/>
              </a:buClr>
              <a:buSzPct val="125000"/>
              <a:buFont typeface="Georgi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aerosol sprays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Pictures of Fluorine: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1790640" y="28764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6940440" y="4621320"/>
            <a:ext cx="4127760" cy="3954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Interesting Fact: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23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7280" tIns="50760" bIns="50760" anchor="ctr">
            <a:normAutofit/>
          </a:bodyPr>
          <a:p>
            <a:pPr lvl="3" marL="10288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ts use is controversial</a:t>
            </a:r>
            <a:endParaRPr b="0" lang="en-US" sz="72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